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C9CBE-8A9A-427C-A0EE-208C6441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683E4-3E10-42E9-8BB9-897040E4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D51C6-0D78-44F1-88DE-B3A7BC7A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D417A-48ED-438C-8E53-419CFA63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35B9-871A-4643-ADD5-0DE0679D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0E20-5D7B-46A1-B0AA-BB4A9465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1B83-1974-4867-BE1B-97E7C0E0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B037-333B-4A10-B449-8AC13448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1455-1536-403A-9ED0-23D06986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D763-150B-4E05-AF6A-18ED6C79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F15A-42C7-4AC5-868E-A839993E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96C30-068D-46AC-BA24-4F70C917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8DC9-0931-4103-87B2-D010622C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1D66-5B8A-4F26-9937-5EC70863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F755-347D-48C1-B335-D77E75E4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8885-50CD-458F-8737-39A7A55A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27C2-9A4D-41F7-84F0-78CA7710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B7177-9E45-4F40-B2E7-BF016E6A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B0A4A-27D5-4737-A9A9-3E60D284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7055B-4513-44AB-8033-1F7988CC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3E880-FD76-43F2-94E1-7E25CE31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1FB3B-FFCC-4D11-B73E-9DD7EAB9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46543-9435-4940-A2EF-BE5EBB1D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FB9D7-A4EC-46A5-B732-1F4ADFB8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33E6-E709-4E69-AE96-02FB133F536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E6C6-37C3-4C5E-941B-2C8FCE7E42A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496440"/>
            <a:ext cx="8928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78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5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асът се не знай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който Бог наш ще дойд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о близък е край - 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приготвил е Свойте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дойде Той пак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слава и власт голям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о часът се не зна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91376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де Той, нека бдим и се молим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де Той! Алилуя, алилу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де в облаци То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силата на Отца Свой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о часът се не зна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1488600"/>
            <a:ext cx="896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бдим всеки час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в молитва усърдн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к всеки от нас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ки час да пребъдв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 щом дойде пак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Свойта праведна съдб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ни вземе в неб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179316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де Той, нека бдим и се молим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де Той! Алилуя, алилу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де в облаци То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силата на Отца Свой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о часът се не зна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79280" y="1488600"/>
            <a:ext cx="896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вземе нас Той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тоз свят на тревог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в вечен покой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ни води при Бога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небесний дом там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Исуса в чертог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век ще бъдем с Отц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9280" y="179316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де Той, нека бдим и се молим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де Той! Алилуя, алилу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де в облаци То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силата на Отца Свой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о часът се не зна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6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1-04-01T16:55:12Z</dcterms:modified>
  <cp:revision>62</cp:revision>
  <dc:subject/>
  <dc:title>Slide 1</dc:title>
</cp:coreProperties>
</file>